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E50C-630D-432B-83AF-4A2457F9D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5A39-C1E0-4A91-8FEF-F902DB6EF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C25C-8E8C-44DE-987D-3C39EC1F2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FD41-3D39-4869-A480-D9FBEB983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4E8A-C2B6-436F-8680-FAB8C90BF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B73C-19DC-4053-96F0-10A686FBE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6BC8-34D8-4F73-BD95-56FFD7194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3772-480A-42DA-9831-C803C1D4E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2041-A89A-4370-B2C7-05DC9BE2B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7D66-5C06-4CB3-A6F9-8184EE9C2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A594-74E2-4243-9CA6-379751C0A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CE6F-8DBB-4DD7-B99E-8524A6195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18679-00AF-4CE4-8945-413225B2EF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3589560" cy="5486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09880" y="0"/>
            <a:ext cx="5334120" cy="6858000"/>
          </a:xfrm>
          <a:prstGeom prst="rect">
            <a:avLst/>
          </a:prstGeom>
          <a:gradFill rotWithShape="0">
            <a:gsLst>
              <a:gs pos="0">
                <a:srgbClr val="ffb3b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295280" y="5638680"/>
            <a:ext cx="1371600" cy="992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962520" y="1447920"/>
            <a:ext cx="518148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aeec"/>
                </a:solidFill>
                <a:latin typeface="Times New Roman"/>
                <a:ea typeface="Times New Roman"/>
              </a:rPr>
              <a:t>La preghiera di tutti i giorn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aeec"/>
                </a:solidFill>
                <a:latin typeface="Times New Roman"/>
                <a:ea typeface="Times New Roman"/>
              </a:rPr>
              <a:t>L'Ave Maria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aeec"/>
                </a:solidFill>
                <a:latin typeface="Times New Roman"/>
                <a:ea typeface="Times New Roman"/>
              </a:rPr>
              <a:t>la preghiera di sempr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aeec"/>
                </a:solidFill>
                <a:latin typeface="Times New Roman"/>
                <a:ea typeface="Times New Roman"/>
              </a:rPr>
              <a:t>Racconta di noi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aeec"/>
                </a:solidFill>
                <a:latin typeface="Times New Roman"/>
                <a:ea typeface="Times New Roman"/>
              </a:rPr>
              <a:t>Racconta di lui, Cris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aeec"/>
                </a:solidFill>
                <a:latin typeface="Times New Roman"/>
                <a:ea typeface="Times New Roman"/>
              </a:rPr>
              <a:t>Racconta di lei, Maria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228600"/>
            <a:ext cx="5715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aeec"/>
                </a:solidFill>
                <a:latin typeface="Times New Roman"/>
              </a:rPr>
              <a:t>Ave o Mari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-304920" y="-685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35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500"/>
                            </p:stCondLst>
                            <p:childTnLst>
                              <p:par>
                                <p:cTn id="11" nodeType="afterEffect" fill="hold" presetClass="entr" presetID="7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1500"/>
                            </p:stCondLst>
                            <p:childTnLst>
                              <p:par>
                                <p:cTn id="16" nodeType="afterEffect" fill="hold" presetClass="entr" presetID="7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15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36576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7c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47640" y="1844640"/>
            <a:ext cx="4648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7162920" y="5334120"/>
            <a:ext cx="1752480" cy="1268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95280" y="4724280"/>
            <a:ext cx="806436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aeec"/>
                </a:solidFill>
                <a:latin typeface="Times New Roman"/>
              </a:rPr>
              <a:t>Uno dei segni di Lourdes è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aeec"/>
                </a:solidFill>
                <a:latin typeface="Times New Roman"/>
              </a:rPr>
              <a:t>la processione con le fiacco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aeec"/>
                </a:solidFill>
                <a:latin typeface="Times New Roman"/>
              </a:rPr>
              <a:t>La processione è una delle richieste c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aeec"/>
                </a:solidFill>
                <a:latin typeface="Times New Roman"/>
              </a:rPr>
              <a:t>Maria fa a Bernadet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69228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aeec"/>
                </a:solidFill>
                <a:latin typeface="Times New Roman"/>
              </a:rPr>
              <a:t>…</a:t>
            </a:r>
            <a:r>
              <a:rPr b="1" lang="it-IT" sz="2400" spc="-1" strike="noStrike">
                <a:solidFill>
                  <a:srgbClr val="00aeec"/>
                </a:solidFill>
                <a:latin typeface="Times New Roman"/>
              </a:rPr>
              <a:t>ma parleremo anche di Lour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556000" y="1197000"/>
            <a:ext cx="4249440" cy="3189240"/>
          </a:xfrm>
          <a:prstGeom prst="rect">
            <a:avLst/>
          </a:prstGeom>
          <a:ln w="0">
            <a:noFill/>
          </a:ln>
        </p:spPr>
      </p:pic>
    </p:spTree>
  </p:cSld>
  <p:transition spd="slow" advTm="45000">
    <p:dissolve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162920" y="5334120"/>
            <a:ext cx="1752480" cy="1268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36576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7c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76320"/>
            <a:ext cx="9144000" cy="67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620640"/>
            <a:ext cx="61214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eec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00aeec"/>
                </a:solidFill>
                <a:latin typeface="Times New Roman"/>
              </a:rPr>
              <a:t>Ave o Maria piena di Graz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eec"/>
                </a:solidFill>
                <a:latin typeface="Times New Roman"/>
              </a:rPr>
              <a:t>il Signore è con t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22560" y="2997360"/>
            <a:ext cx="6121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eec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00aeec"/>
                </a:solidFill>
                <a:latin typeface="Times New Roman"/>
              </a:rPr>
              <a:t>Sapete l’origine dell’Ave Mari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5000">
    <p:dissolv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024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332000" y="-243000"/>
            <a:ext cx="396216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prima parte dell’Ave Maria ripo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l saluto che l’Angelo Gabrie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ta a M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Lc 1,2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68360" y="4149720"/>
            <a:ext cx="6481800" cy="27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l tema di questo campo è: “Non abbiate paura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che a Maria l’angelo di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i="1" lang="it-IT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n temere!</a:t>
            </a:r>
            <a:r>
              <a:rPr b="1" i="1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Hai trovato grazia presso Dio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Lc 1,3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0">
    <p:dissolv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880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0"/>
            <a:ext cx="3995640" cy="38606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 sei benedetta fra tutte le don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benedetto è il frutto del tuo seno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716360" y="2781360"/>
            <a:ext cx="3996000" cy="38606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no le parole che Elisabetta  rivolge a Mar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a cugina –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ndo la incon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5000">
    <p:dissolv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36576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7c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47640" y="1844640"/>
            <a:ext cx="4648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162920" y="5334120"/>
            <a:ext cx="1752480" cy="1268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572000" y="2492280"/>
            <a:ext cx="3382920" cy="29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aeec"/>
                </a:solidFill>
                <a:latin typeface="Times New Roman"/>
                <a:ea typeface="Times New Roman"/>
              </a:rPr>
              <a:t>L’ultima parte dell’”Ave Maria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aeec"/>
                </a:solidFill>
                <a:latin typeface="Times New Roman"/>
                <a:ea typeface="Times New Roman"/>
              </a:rPr>
              <a:t>nasce dalla tradizione popol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62064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eec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aeec"/>
                </a:solidFill>
                <a:latin typeface="Times New Roman"/>
              </a:rPr>
              <a:t>Santa Maria, madre di Di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eec"/>
                </a:solidFill>
                <a:latin typeface="Times New Roman"/>
              </a:rPr>
              <a:t>Prega per noi peccat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eec"/>
                </a:solidFill>
                <a:latin typeface="Times New Roman"/>
              </a:rPr>
              <a:t>Adesso e nell’ora della nostra m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eec"/>
                </a:solidFill>
                <a:latin typeface="Times New Roman"/>
              </a:rPr>
              <a:t>Ame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5000">
    <p:dissolv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36576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7c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47640" y="1844640"/>
            <a:ext cx="4648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162920" y="5334120"/>
            <a:ext cx="1752480" cy="1268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435640" y="2421000"/>
            <a:ext cx="3382920" cy="29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aeec"/>
                </a:solidFill>
                <a:latin typeface="Times New Roman"/>
                <a:ea typeface="Times New Roman"/>
              </a:rPr>
              <a:t>Anche lì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aeec"/>
                </a:solidFill>
                <a:latin typeface="Times New Roman"/>
                <a:ea typeface="Times New Roman"/>
              </a:rPr>
              <a:t>l’Ave Maria ha una sto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4360" y="62064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eec"/>
                </a:solidFill>
                <a:latin typeface="Times New Roman"/>
              </a:rPr>
              <a:t>Questo è il 150° anniversario dalla prima apparizione di Maria a S. Bernadetta, nella grotta di Lourdes, in Fra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39640" y="2171880"/>
            <a:ext cx="4392720" cy="43923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880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0" y="4952880"/>
            <a:ext cx="9220320" cy="1895760"/>
          </a:xfrm>
          <a:prstGeom prst="rect">
            <a:avLst/>
          </a:prstGeom>
          <a:solidFill>
            <a:srgbClr val="eaeae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9966ff"/>
                </a:solidFill>
                <a:latin typeface="Times New Roman"/>
                <a:ea typeface="Times New Roman"/>
              </a:rPr>
              <a:t>Quando viene chiesto a S. Bernadette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9966ff"/>
                </a:solidFill>
                <a:latin typeface="Times New Roman"/>
                <a:ea typeface="Times New Roman"/>
              </a:rPr>
              <a:t>di descrivere Maria lei risponde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9966ff"/>
                </a:solidFill>
                <a:latin typeface="Times New Roman"/>
                <a:ea typeface="Times New Roman"/>
              </a:rPr>
              <a:t>“</a:t>
            </a:r>
            <a:r>
              <a:rPr b="1" i="1" lang="en-US" sz="2500" spc="-1" strike="noStrike">
                <a:solidFill>
                  <a:srgbClr val="9966ff"/>
                </a:solidFill>
                <a:latin typeface="Times New Roman"/>
                <a:ea typeface="Times New Roman"/>
              </a:rPr>
              <a:t>E’ così bella, che vorresti morire per rivederla ancora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788000" y="189000"/>
            <a:ext cx="4356000" cy="1152360"/>
          </a:xfrm>
          <a:prstGeom prst="rect">
            <a:avLst/>
          </a:prstGeom>
          <a:solidFill>
            <a:srgbClr val="eaeae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9966ff"/>
                </a:solidFill>
                <a:latin typeface="Times New Roman"/>
                <a:ea typeface="Times New Roman"/>
              </a:rPr>
              <a:t>Che bella mamma che abbiamo!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0">
    <p:dissolv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4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4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4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36576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7c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47640" y="1844640"/>
            <a:ext cx="4648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162920" y="5334120"/>
            <a:ext cx="1752480" cy="12682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572000" y="907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eec"/>
                </a:solidFill>
                <a:latin typeface="Times New Roman"/>
              </a:rPr>
              <a:t>Maria, durante le apparizioni, chiede a Bernadette di pregare il ros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395280" y="476280"/>
            <a:ext cx="3794040" cy="55656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572000" y="321300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eec"/>
                </a:solidFill>
                <a:latin typeface="Times New Roman"/>
              </a:rPr>
              <a:t>Maria, rimane in silenzio mentre Bernadette recita l’Ave Mari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eec"/>
                </a:solidFill>
                <a:latin typeface="Times New Roman"/>
              </a:rPr>
              <a:t>Ma si unisce a lei nel recitare il Padre nostro il Gl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5000">
    <p:dissolv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36576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7c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547640" y="1844640"/>
            <a:ext cx="4648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162920" y="5334120"/>
            <a:ext cx="1752480" cy="12682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5364000" y="2637000"/>
            <a:ext cx="3383280" cy="29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aeec"/>
                </a:solidFill>
                <a:latin typeface="Times New Roman"/>
                <a:ea typeface="Times New Roman"/>
              </a:rPr>
              <a:t>In questo campo rifletterem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aeec"/>
                </a:solidFill>
                <a:latin typeface="Times New Roman"/>
                <a:ea typeface="Times New Roman"/>
              </a:rPr>
              <a:t>sui misteri della Lu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aeec"/>
                </a:solidFill>
                <a:latin typeface="Times New Roman"/>
                <a:ea typeface="Times New Roman"/>
              </a:rPr>
              <a:t>voluti espressamente 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aeec"/>
                </a:solidFill>
                <a:latin typeface="Times New Roman"/>
                <a:ea typeface="Times New Roman"/>
              </a:rPr>
              <a:t>Giovanni Paolo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9228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eec"/>
                </a:solidFill>
                <a:latin typeface="Times New Roman"/>
              </a:rPr>
              <a:t>Durante il rosario si recitano i miste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50920" y="1992240"/>
            <a:ext cx="5041800" cy="3787920"/>
          </a:xfrm>
          <a:prstGeom prst="rect">
            <a:avLst/>
          </a:prstGeom>
          <a:ln w="0">
            <a:noFill/>
          </a:ln>
        </p:spPr>
      </p:pic>
    </p:spTree>
  </p:cSld>
  <p:transition spd="slow" advTm="45000">
    <p:dissolv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7T23:54:37Z</dcterms:created>
  <dc:creator>AB</dc:creator>
  <dc:description/>
  <dc:language>en-US</dc:language>
  <cp:lastModifiedBy>Steo@Stefi</cp:lastModifiedBy>
  <dcterms:modified xsi:type="dcterms:W3CDTF">2008-07-15T05:01:50Z</dcterms:modified>
  <cp:revision>135</cp:revision>
  <dc:subject/>
  <dc:title>Presentazione di PowerPoint</dc:title>
</cp:coreProperties>
</file>